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3216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nformation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18320" y="629748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pring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32120" y="62485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330D-9F7E-41A9-9406-528128D500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69840" y="587520"/>
            <a:ext cx="553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formation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 Strategic Guide to the Network Econom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ndards W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l Shap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 R. Var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ce You’ve W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y on gu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t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er a migration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ditize complementary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eting against your own installed 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l ag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rable goods mono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ce You’ve Won,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t’d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ract important complemen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verage installed 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and network geographica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y a lea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proprietary ext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if You Fall Behind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ers and interconn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dperf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land v. Lo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s,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rvival pri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 to pull 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from penetration pri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gal 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n v. Microso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crosoft v. Netscap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val ev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switching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network external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em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etration pri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ctations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i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stand the type of w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val 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val r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olution v 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ength depends on 7 critical ass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emption is a critical tac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ctations management is cri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ssons, continu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you’ve won the war, don’t rest ea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fall behind, avoid survival pri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R gau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ison v. Westingho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BC v. CBS in color T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Com v. Rockwell/Luc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assification of W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41560" y="2057400"/>
          <a:ext cx="7278480" cy="43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1560" y="2057400"/>
                    <a:ext cx="727848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val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deo mach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val rev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VD  v.  Divx, high density disks (JAZ,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olution  v.  R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98  v.  Rhaps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cent Standards W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 stere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 industry invested, radio didn’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ital wireless ph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urope: G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: GSM, TDMA (cousin of GSM), CD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DMA: 5 mill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DMA: 2.5 mill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SM: 1 mill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ndards Wa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icsson (TDMA) has AT&amp;T, SBC , Bellsou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lcom (CDMA) has Bell Atlantic, US West, e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formance play strate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big are the network externaliti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ographic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stment is sunk, systems interconn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ndards Wars,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t’d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6K mod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Robotics x2 attempted preem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ckwell/Lucent K56 Fl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ctations management, switching 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led Dec 97: estimated will triple size of 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ey Asse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over an installed 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ectual property r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y to innov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-mover 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factu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ength in compl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utation and brand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 Basic Tac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em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 installed base ear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watch out for rapid technological prog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ctations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e expec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watch out for vapor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9T03:12:22Z</dcterms:created>
  <dc:creator>Hal Varian</dc:creator>
  <dc:description/>
  <dc:language>en-US</dc:language>
  <cp:lastModifiedBy>Hal Varian</cp:lastModifiedBy>
  <dcterms:modified xsi:type="dcterms:W3CDTF">1998-07-24T02:35:53Z</dcterms:modified>
  <cp:revision>31</cp:revision>
  <dc:subject/>
  <dc:title>Standards Wars</dc:title>
</cp:coreProperties>
</file>