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75D-7A33-48B0-8D0C-C04584A8F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16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sioning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line and Offlin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hole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tscape Navig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on Dictum: think of content as 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adding value to online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Academy of Science 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t for browsing, not pri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Many Version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is too f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 is (probably) too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things to 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ze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ze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ze Your Marke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naturally subdivide into different categories?   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ir behaviors sufficiently differ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Air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ists v. Business trave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ze Your Pro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mensions to 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and low end for each dim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for high end, reduce quality for low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end advertises for high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ldilocks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market software (word, spreadshee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ault choice: 3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remeness a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/large  v.  small/large/jumb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crowave Oven 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rgain basement at $109, midrange at $17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range chosen 45%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-end at $199 ad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d-range chosen 60%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-lowest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ustomizing the Brows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behavior information (Jav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e vie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&amp;W page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ff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turn it on and o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ndl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a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0% market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unt one of the prod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on value: zero incremental pr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's per-processor lic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duce Disper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price separate o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: $120 for WP, $100 for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ah: $100 for WP, $120 for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ndling: $4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bundling: $4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duce Dispersion:</a:t>
            </a:r>
            <a:br>
              <a:rPr sz="40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rice separate or together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7640" y="1752480"/>
          <a:ext cx="7607160" cy="35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752480"/>
                    <a:ext cx="7607160" cy="357516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76212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rofit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Bundling: $44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:  $4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ue-Based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need to price by id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product line, and watch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menu of different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 different market seg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accordingly (self selec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formation Bund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azines and news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of larg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ized bu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linear pri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revious example sell first item for $1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 second item for $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MusicMa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motional Pric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, coupons, reb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ly worthwhile if segment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ible signal of price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 with software ag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gain Fi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ce S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sion your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, interface, resolution, speed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value to online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natural se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wise use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the brow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ndling may reduce disp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Quicken Example Revisit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en for Windows at $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icken Deluxe at $6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ditional Information Goo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back/paper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e/vide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mensions to U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ay (Fed Ex, PAWW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r Interface (DialogWeb, DataSt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Resolution (PhotoDis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of operation (Mathemat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 (Lexis/Nex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ability (Kurzwei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atures (Quicken, tech supp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veness (DialogWeb, DataSt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 type As: $100 for speed, $40 for s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 type Bs:  $50 for speed, $30 for s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ty-based pricing: $7000 reven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only speedy: $50 is best price, revenues=$5,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only slow: not as profi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ersioning  Sol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speedy for $100, slow for $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this work?  Compare benefits and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-100=0, but 40-30=10 &gt;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ount the fast version: 100-p=40-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, p=9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nues = $5,400 = 90x40 + 30x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ing Self-Selection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eed to cut price of high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need to cut quality at low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-subtracted ver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ost more to produce the low-quality vers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design, make sure you can turn features off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itfal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ctoria’s secr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bit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 NT workstation/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30:09Z</dcterms:created>
  <dc:creator>Hal Varian</dc:creator>
  <dc:description/>
  <dc:language>en-US</dc:language>
  <cp:lastModifiedBy>Hal Varian</cp:lastModifiedBy>
  <dcterms:modified xsi:type="dcterms:W3CDTF">1998-07-24T02:35:30Z</dcterms:modified>
  <cp:revision>18</cp:revision>
  <dc:subject/>
  <dc:title>Versioning Information</dc:title>
</cp:coreProperties>
</file>