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3216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18320" y="62974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pring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32120" y="62485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6611-344C-4B07-85A1-04D3B3B936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73080" y="587520"/>
            <a:ext cx="553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formation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Strategic Guide to the Network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operation and Compati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l Shapi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 R. Vari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st of Tac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automatically particip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 you have to lic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up moment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 R&amp;D while negoti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for logro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ding technologies and v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st of Tactics,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t’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reative about 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sourcing, licensing, hybri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ware of vague prom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ion of 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rch carefully for blocking pa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ents held by non-particip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emptively build installed b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ilding Allian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ing a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votal customers should get special de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don’t give your first customers too big an advan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fer temporary price bre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ilding Alliances,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t’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bears risk of failu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ends up with large fi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bankruptcy favors small fi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 is even bet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rt cards i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connection Among All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interconn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 office,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otiating a tr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the benefit cost 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to divide a larger pi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standards ga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52480" y="2128680"/>
          <a:ext cx="6243840" cy="40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28680"/>
                    <a:ext cx="624384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62480" y="320040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800" y="16002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yer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ximizing Retur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reward = Total value added x your sh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peration between Netscape and Microso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Profiling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liance Exa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erox and 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be PostScri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e 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ing Open Standar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is in danger if it lacks a spons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&amp;T invention by acci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ve away source code to 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3 Coalition: Novell purchased rights for $320 million and gave name to X/Op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GML and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 requires a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your standard affect competi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s benefit consumers and suppliers, at expense of incumbents and sel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l standard setting adds cred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natural a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Standards Change the Gam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ed network externa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network larger, increase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e info with larger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tracts more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d uncertain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eed to w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war, neither side may w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ssons, continu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a battle, try to negotiate a tr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retain control over technology, even when establishing an open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nge Game,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t’d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d consumer lock-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scape’s “Open Standards Guarante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market v. competi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mar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y into an open standard, that becomes clos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J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nge Game,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t’d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 on price v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oditized produc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ition to offer proprietary ex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ing a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thernet 10 v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nent v systems com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interconnection, can compete on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Wins and Who Lose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better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variety may decr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better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rver brokering role (DV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Wins,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t’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umb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be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ny backward compat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e its own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y itself with new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Wins,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t’d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ov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ology innovators collectively welcom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group benefits, there should be some way to make members bene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gotiation costs, opportunistic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rmal Standard Set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ssenti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tents must be licensed on “fair, reasonable and non-discriminatory” te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65, now UN ag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oriously 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I and I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,500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SS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actics 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ormal Standard Set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your go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or internation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ng your interes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re others go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they really want a standar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03:12:22Z</dcterms:created>
  <dc:creator>Hal Varian</dc:creator>
  <dc:description/>
  <dc:language>en-US</dc:language>
  <cp:lastModifiedBy>Hal Varian</cp:lastModifiedBy>
  <dcterms:modified xsi:type="dcterms:W3CDTF">1998-07-24T02:35:13Z</dcterms:modified>
  <cp:revision>27</cp:revision>
  <dc:subject/>
  <dc:title>Cooperation and Compatibility</dc:title>
</cp:coreProperties>
</file>