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C4C-310B-4082-9110-1BB936329C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69840" y="587520"/>
            <a:ext cx="55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ghts Manag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ed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x -- described earl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gle-play music C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 link is in re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yptolopes and Superdistrib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be’s Type on Call C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distribution: give it to a fri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rather than star-shaped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ent bat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bat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nven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sheet copy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ce of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and proced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ical 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rculating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41: Pam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0 libraries by 18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deo st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rental as prelude to purc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wing the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oosing Terms and Condi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enue = price x qua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beral terms and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s quantity s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mple Mod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 = amount consum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= amount s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(y) = demand, assume zer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case: max p(y)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T&amp;C more lib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(y) with a&gt;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 = bx with b &lt;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ys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 ap(y)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 (a/b) p(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: y the same, profits depend on a/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actions Cos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e license v individual licen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an distribute more cheap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effectively can group aggregate valu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challenges: cheap production, cheap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ap distribution: helps advertise by giving away s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ap distribution: good for bitleggers, but their need to advertise helps control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, continu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protection that imposes costs on users is vulnerable to competitive fo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tradeoff in terms and conditions: more liberal terms make product more valuable buy may reduce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te licenses and other group pricing schemes are a valuable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llectual Property La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ectual property law cannot be patched, retrofitted, or expanded to contain digitized expression…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formation wants to be fre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”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ohn Perry Barlow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he righ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duction and Distribu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al tech lowers product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al tech lowers distribution co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pe recorder lowers production, but not distribution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 radio broadcast lowers distribution costs, not reproduction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ke Lower Distribution Costs Work for Yo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is an experience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give away some of your content in order to sell 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product line/versi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Academy of Sciences 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read, hard to pr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and for Repeat Vie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way all your content, but only o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, books, video have different use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ney: free vide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ney: sued day care cen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and for Similar Vie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samples direct customers back to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cAfee Associ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5 million in first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$3.2 billion market value by 19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lf of virus protection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and for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lementary Produc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way index and sell cont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l Street Journal, New York Times, Economist give away ind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content, organization/index is what matt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rcast sells current awar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llicit Copy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ly information: not a big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ap information: not a big probl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feedback: the bigger you are, the easier to det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ower Reproduction Cos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ection isn’t as important as commonly tho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ital Audio Tape (D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MS inhibits copies of cop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og video tap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79: 4 blanks for each pre-recor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2: 1 to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3:12:22Z</dcterms:created>
  <dc:creator>Hal Varian</dc:creator>
  <dc:description/>
  <dc:language>en-US</dc:language>
  <cp:lastModifiedBy>Hal Varian</cp:lastModifiedBy>
  <dcterms:modified xsi:type="dcterms:W3CDTF">1998-07-24T02:34:49Z</dcterms:modified>
  <cp:revision>37</cp:revision>
  <dc:subject/>
  <dc:title>Rights Management</dc:title>
</cp:coreProperties>
</file>