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32160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Information Ru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18320" y="6297480"/>
            <a:ext cx="11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pring 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732120" y="624852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F66F-93F9-45A0-B5A0-5317823FA8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69840" y="587520"/>
            <a:ext cx="553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nformation Ru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A Strategic Guide to the Network Econom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cing Inform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l Shapi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l R. Var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ard to do for Incumb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not recognize threat till too l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P/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dst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Cal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ersonalize Your Produc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onalize product, personalize pr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ntCa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onalized a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t words (in cents/view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ja News: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0     4.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cite: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4     4.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seek: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3     5.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ahoo: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0     3.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now Your Custom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is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d: NY Ti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lling: Wall Street Jour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OL’s ace in hole: ZA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now your consum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serve Que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serve Clickstre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strea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est and how long you l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nectionless nature of HTT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 a promising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ap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rtual Viney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timized brows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ogic of Pric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icken exam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million wtp $60, 2 million wtp $20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mand curve (next slid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umes only one pr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ce discrimination gives $10 mill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do you know wtp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do you prevent arbitrag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mand Curv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219320"/>
            <a:ext cx="128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Dolla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057400" y="1905120"/>
            <a:ext cx="6220800" cy="3663360"/>
            <a:chOff x="2057400" y="1905120"/>
            <a:chExt cx="6220800" cy="3663360"/>
          </a:xfrm>
        </p:grpSpPr>
        <p:sp>
          <p:nvSpPr>
            <p:cNvPr id="111" name=""/>
            <p:cNvSpPr/>
            <p:nvPr/>
          </p:nvSpPr>
          <p:spPr>
            <a:xfrm>
              <a:off x="2718360" y="1905120"/>
              <a:ext cx="0" cy="316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18360" y="5068080"/>
              <a:ext cx="3672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712480" y="5108760"/>
              <a:ext cx="256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Quantity (Millions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44920" y="4540680"/>
              <a:ext cx="146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44920" y="4164120"/>
              <a:ext cx="146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644920" y="3260520"/>
              <a:ext cx="146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58840" y="39384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$2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57400" y="3034440"/>
              <a:ext cx="61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$4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58840" y="198036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$6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79680" y="4992480"/>
              <a:ext cx="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55080" y="4992480"/>
              <a:ext cx="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67200" y="4992480"/>
              <a:ext cx="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18360" y="2281320"/>
              <a:ext cx="660960" cy="27864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79680" y="4164120"/>
              <a:ext cx="1175400" cy="903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219120" y="5108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80440" y="5108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467960" y="5108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44920" y="3712320"/>
              <a:ext cx="146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44920" y="2733120"/>
              <a:ext cx="146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644920" y="2281320"/>
              <a:ext cx="146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orms of Differential Pric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onalized pric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l to each user at a different pr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rsio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fer a product line and let users choo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up pric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d on group membership/ident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ersonalized Pric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talog inse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ket rese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sy on the Int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aditional Industr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irl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rect m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xis/Ne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ermarket scann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fit margin more than doubled 1993-199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effective than other forms of adverti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rtual Viney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seouts, promo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ritannica v. Encart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itannica: 200 years, $1,600 for 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92: Microsoft purchased Funk &amp; Wagnalls to make Encar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itannica respon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line subscription at $2,000 per y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les dropped 50% between 1990 and 199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line subscription at $1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D for $200, since 1996 $70-$1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roup Pric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ce sensiti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twork effects, standard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k-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a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ce Sensitiv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national pric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 edition textbook: $7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an edition textbook: $5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blems raised by Int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alization as s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etwork Effec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ati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te licen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riety of schemes: per client, per user, per server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k-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Wall Street Journal’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ewspapers-in-edu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soft Off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 seat, concurr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har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actions cost of sha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de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re for repeat pl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lectric Libr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to sell t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usehol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hools/libr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derstand cost 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odity market: be aggressive, not gree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erentiate product and pr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derstand consum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onalize products and pr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der selling to gro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duction Cos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st-copy costs domin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nk costs - not recover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riable costs small; no capacity constra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crosoft has 92% profit marg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gnificant economies of sc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ginal cost less than average c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lining average c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mplications for Market Structu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not be "perfectly competitive"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sustainable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minant firm/monopo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iated produ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combinations of abo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rateg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to 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iate your produ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d value to the raw information to distinguish yourself from the compet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hieve cost leadership through economies of scale and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moditized Inform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D ROM phonebook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986: Nynex charged $10,000 per disk for NY director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oCD and Digital Directory Assistanc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hinese workers at $3.50 daily wag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ertrand competi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t at $200 e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ce forced to marginal c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f You are in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modity Busines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st lead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l the same thing over ag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ywatch, Reu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uces average c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fferentiate Produc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gbook and ma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st Publishing and page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right and cont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rst-mover Advantag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oid gre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ond to threat quickly and decisive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 pricing; highly credible with high F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y toug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ourage future en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ects expression, not ide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itation as a strate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tant innovation (search engin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9T03:24:02Z</dcterms:created>
  <dc:creator>Hal Varian</dc:creator>
  <dc:description/>
  <dc:language>en-US</dc:language>
  <cp:lastModifiedBy>Hal Varian</cp:lastModifiedBy>
  <dcterms:modified xsi:type="dcterms:W3CDTF">1998-07-24T02:34:19Z</dcterms:modified>
  <cp:revision>34</cp:revision>
  <dc:subject/>
  <dc:title>Pricing Information</dc:title>
</cp:coreProperties>
</file>