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6321600"/>
            <a:ext cx="185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Information Ru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18320" y="6297480"/>
            <a:ext cx="11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Spring 98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732120" y="6248520"/>
            <a:ext cx="14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395DF-4133-4ECF-93EF-AAB260C23AA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35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71640" y="587520"/>
            <a:ext cx="5536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Information Rul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A Strategic Guide to the Network Econom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35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Information Polic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371600" y="4723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rl Shapir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l R. Vari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Be Awar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irtually any acquisition or merger will be review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atch out for meeting with riva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ocument your complia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Merger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dobe/Aldu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icrosoft/Intui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licon Graphics/Alias/Wavefro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ooperative Standards Setting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andards setting…or cartel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atch out for prices and terms agreem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erformance standards as barrier to ent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tent cross licen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erconnection agreem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ingle Firm Conduc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clusive deal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y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Achieving Critical Mas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ivate sector can be creative about network externa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ideo sto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odak film syste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mportant basic technology needs to be proven or demonstrat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Regulati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trol genuine monopoly power where it exis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Universal Servic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rollary to network externalitie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eograph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corporated into land pri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com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rit goo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y do some not have servic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Lesson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on’t expect government’s role to diminis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very company needs to know the ru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You can usually use differential pric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licy should ensure fair fight, not punish winners or protect loos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rgers are subject to review by DoJ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Lessons, continued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operate to set standards and develop new technologies, so long as efforts benefit consum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 you gain a leading share of market, conduct audit of your practi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on’t expect government regulation of telecom to diminish any time so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Jim Barksdal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“…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orking with the government is far more productive than trying to ignore i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ompetition Polic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fferentiation of products and pri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ock-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sitive feedbac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rice Differentiati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obinson-Patman Act , 193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ice discrimination is illegal if it “effectively lessens competition”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egal arguments that wor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set lower prices resulting from lower cos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t differential prices to meet competi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icing only questionable if it “lessens competition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Differential Pricing 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an Hurt Consumer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00 people wtp $20, 1000 people wtp $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ptimal flat price = $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00 people wtp $20 for early edition, $5 for later, 1000 people wtp $5 for la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ptimal to sell at $20 and $5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umers now are worse off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Differential Pricing 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an Benefit Consumer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000 consumers wtp $20, 100 people wtp $6 for early, $5 for la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ptimal flat  price = $2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ersioning: sell for $20 and $5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ey: will versioning increase size of market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ompetition Polic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herman Ac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ayton Ac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tects competition as a proc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nopoly isn’t illegal, but attempt to monopolize 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Government Choic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o noth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ct on basis that  monopoly was illegally obtain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reak u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hibit suspect practi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gulate the monopoli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Implications for Strateg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nopoly may be inhibited from using strategies that are legal for other firm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ut even small firms may be accused of antitrust viol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ole of trebble damag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3T22:34:10Z</dcterms:created>
  <dc:creator>Hal R. Varian</dc:creator>
  <dc:description/>
  <dc:language>en-US</dc:language>
  <cp:lastModifiedBy>Hal Varian</cp:lastModifiedBy>
  <cp:lastPrinted>1998-01-21T05:26:02Z</cp:lastPrinted>
  <dcterms:modified xsi:type="dcterms:W3CDTF">1998-07-24T02:34:08Z</dcterms:modified>
  <cp:revision>12</cp:revision>
  <dc:subject/>
  <dc:title>Information Policy</dc:title>
</cp:coreProperties>
</file>