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9AEA-2343-46EF-9EE0-BFDF8C745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Information Econo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ck-In and Switching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tereos and L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ly switch to C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s lock-in: durable 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, software, and we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, organizational, and socie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depends on number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(patented in 184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 (1980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rect network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 pre-annou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ati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a v. V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y v. Philips for DV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le of 3rd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v. writ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wards compatibil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ic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it 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s (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standard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spread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nsing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et 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mark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 comme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is Different…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ut not so differen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concep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 competi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s of Produ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ary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/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ent/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r/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fixed cost, low increment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 to value based pr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que Featu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manufactu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y for complementors as well as competi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tibility as strategic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s and inter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quality may be more exp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that can be digi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, images, videos, music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.k.a. content, digital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cost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que demand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st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produce, cheap to reprod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fixed cost, low marginal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nly fixed, but su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ificant capacity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ular market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opo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t differentiation (version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s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reproduction cost is two-edged s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ap for owners (high profit marg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also cheap for cop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IP, not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y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sumpti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w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n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utation and brand 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l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s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mail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cast, point-to-point, hyb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rastructure to store, retrieve, filter, manipulate, view, transmit, and receiv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s value to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= 1 terabyte of text = 1 million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10% useful = 1 Borders Book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Web is in ease of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nt end to databas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s Compet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-Intel: W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ize complementory c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ditize P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d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ed better, but lack of competition and scale led to current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8:47Z</dcterms:created>
  <dc:creator>Hal Varian</dc:creator>
  <dc:description/>
  <dc:language>en-US</dc:language>
  <cp:lastModifiedBy>Hal Varian</cp:lastModifiedBy>
  <dcterms:modified xsi:type="dcterms:W3CDTF">1998-07-24T02:33:46Z</dcterms:modified>
  <cp:revision>29</cp:revision>
  <dc:subject/>
  <dc:title>The Information Economy</dc:title>
</cp:coreProperties>
</file>