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F36-A4EA-49EF-BC4E-93F54B044B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s and Positive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gniting Positive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up some performance to ensure compatibility, thus easing consumer ado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pe the slate clean and come up with the best produc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a migration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land v Lo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new network by links to old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: technical and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chnical Obstac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reative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in terms of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ers and bridge technolo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-way compat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gal Obstac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IP licen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ony and Philips C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v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ves’s law: “10X ru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depends on switc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Ninte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enness v.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reward = Total added to industry x your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added to 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product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ze of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how 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en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open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ybody can make the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 no champ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y members of alliance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: holding alliance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standard and go it 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everal try this strategy, may lead to standards w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ic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57440" y="2022480"/>
          <a:ext cx="6173640" cy="48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022480"/>
                    <a:ext cx="617364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formance Pl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new, incompatibl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Pil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mega Z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ctive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ider with no installed 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Ide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s to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y 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led Mig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tible, but propriet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t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pen Mig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vendors, compatibl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mod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ontinu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vendors, new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 au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1/2” d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ical Examples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itive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R gau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 v. D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phone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r T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D T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tive feedback means strong get stronger and weak get we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s value size of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 for large networks, against small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 expectations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amental tradeoff: performance and compat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amental tradeoff: openness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lled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ntin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s o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itive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ng get stronger, weak get we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: stabiliz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s a market “tipp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: VHS v. Beta, Wintel v. Ap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ner take all marke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urces of Positive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y side economies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ing averag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al cost less than averag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information g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and side economies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: fax, email, W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articular: Sony v. Beta, Wintel v. Ap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calfe’s Law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of network of size n proportional to 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 of expec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ck-In and Switching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effects lead to substantial collective switc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 worse than individual 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e to coordina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QW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n’t Get Carried Awa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externalities don’t always a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Ps (but watch out for Q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C pro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ihood of ti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next sl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kelihood of Tipp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1560" y="2176560"/>
          <a:ext cx="7183440" cy="37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2176560"/>
                    <a:ext cx="71834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icken &amp; Eg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 and fax mach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CRs and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et browsers and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5T02:10:01Z</dcterms:created>
  <dc:creator>Hal R. Varian</dc:creator>
  <dc:description/>
  <dc:language>en-US</dc:language>
  <cp:lastModifiedBy>Hal Varian</cp:lastModifiedBy>
  <cp:lastPrinted>1998-07-07T17:04:00Z</cp:lastPrinted>
  <dcterms:modified xsi:type="dcterms:W3CDTF">1998-07-24T02:33:14Z</dcterms:modified>
  <cp:revision>23</cp:revision>
  <dc:subject/>
  <dc:title>Network and Positive Feedback</dc:title>
</cp:coreProperties>
</file>