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48500" cy="9334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32160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Information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18320" y="629748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pring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32120" y="624852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0252-8F39-44CC-A40D-85498DFC34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71640" y="587520"/>
            <a:ext cx="553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nformation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 Strategic Guide to the Network Econom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naging Lock-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l Shap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 R. Var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fluential Buyers,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nt’d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yers with high switch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yer side: convince the seller you are influent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already be lock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yer has incentive to exagge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out for churn (phone calls, ISP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yers with growing needs are very attra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rategic Variables in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ock-in Cyc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nitude of switch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yalty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mulative volume discou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y on infote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yalty programs will become more widespr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conventional markets to lock-in mark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oyalty Progra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quirements contrac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requent buyer progra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nsion with promotions -- offer better deal to non-custom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urden of locked-in customers: offer too high a price to attract new custom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ce discrimination, stripped down pro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sumer switch cos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go down due to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ultiplayer strateg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cision maker and pay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equent flyer mi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ant formulas at hospital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utomobile tir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uyers of complem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ifferent customers buy razors and bla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ubsidize the far-sighted group, tax the short-sighted grou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BS oper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scape su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66"/>
                </a:solidFill>
                <a:latin typeface="Times New Roman"/>
              </a:rPr>
              <a:t>Lock-in and </a:t>
            </a:r>
            <a:br>
              <a:rPr sz="4200"/>
            </a:br>
            <a:r>
              <a:rPr b="0" lang="en-US" sz="4200" spc="-1" strike="noStrike">
                <a:solidFill>
                  <a:srgbClr val="ffcc66"/>
                </a:solidFill>
                <a:latin typeface="Times New Roman"/>
              </a:rPr>
              <a:t>Complementary Products</a:t>
            </a:r>
            <a:endParaRPr b="0" lang="en-US" sz="4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isa and Amex:Visa gave away payment services to capture interest charg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perating system and applica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tra profits on complements makes primary market more competitiv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ifferential pric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argainFinder, MusicMak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niqu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ycle lengt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actual Commit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fetime of durable equi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mentary assets with different lifeti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yer side: try to synchron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ler side: try pre-emptive renew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ructuring De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sensitive to budg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systems, copyright prot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-year contracts with large custo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s it hard to get scale to comp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w Versions and Upgra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't want to leave opportunities op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announcements, vapor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charges of pred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ss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y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gain h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second-sourcing and open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 bargaining position at choice st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l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st in your installed 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ltivate influential buy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ssons, continu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l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 product and pricing to get customers to invest in your 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l your customers complementary prod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l access to your installed 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Strategy for Buy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rgain for compensation at begi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 your vulner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al sour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mand compensation for each st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out for partial contrac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tation to cut 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Strategy for Sell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sign products and promotions to attract custom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engthen and strengthen cycl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ll complementary products to these consum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nsion: claim openness, but don’t deliv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simple open interface (RTF), powerful closed interface (DO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Tension in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yer’s Strate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y you have large switching costs to get large compens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want to minimize lock-in as much as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atch Out F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gue commit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ealing too much about vulner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trenchment phase strate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want to switch, in part just to gain leve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creeping lock-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info on usage to your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alue of  Installed Ba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igh market shares don't imply high switching cos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vig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ow market share can still mean large lock-i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Associ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ook Ahead in Lock-In Cyc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 present value over whole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k at type of custo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case: Perfect Compet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products, many competi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etition forces you to invest in discounts to get consumers lock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st earn normal rate of return on those investments;quasipro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tra-normal Return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produ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er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-mover advantage (unique produc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advant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ich Buyers are Valuabl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of future revenue stre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streams are b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luential buy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itional cash generated by sale to particular consu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BS oper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9T03:12:22Z</dcterms:created>
  <dc:creator>Hal Varian</dc:creator>
  <dc:description/>
  <dc:language>en-US</dc:language>
  <cp:lastModifiedBy>Hal Varian</cp:lastModifiedBy>
  <cp:lastPrinted>1998-07-24T17:16:34Z</cp:lastPrinted>
  <dcterms:modified xsi:type="dcterms:W3CDTF">1998-07-24T17:16:38Z</dcterms:modified>
  <cp:revision>29</cp:revision>
  <dc:subject/>
  <dc:title>Managing Lock-In</dc:title>
</cp:coreProperties>
</file>