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5A1-BEC5-4888-85DE-65DFB3E8A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perfect help in Microsoft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s brand: compar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ing phase: try the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enchment: makes the durable inves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k-in: costly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erkegaaard: “it is perfectly true, as philosophers say, that life must be understood backwards.  But they forget the other proposition, that it must be lived forwa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l Atlantic: 1995 suit for monopo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year life of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Associates: $3.5 billion, behind Microsoft and Ora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Associates: $432,000 per 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oft:  $422,000 per 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cle:  $180,000 per 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want to switch OS or applications or vend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 bought Soviet aircraft at deep dis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buy manuals or spare part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irlines avoided this  mis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FBD-8C1D-4FCC-9818-F627C92EE6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gnizing Lock-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and-specific Trai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uch is transferab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ors want to lower switc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land and Quattro Pro 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 and WordPerfect 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&amp; Datab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ist on standard form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ecialized Suppli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tising, legal, accounting fi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a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al sour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 and A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obe PostScr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arch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actions cost in finding new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costs borne by new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on, clsoing deal, setting up account, credit r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redit C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100 million in receivables sells or about $120 m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valuation of “loyalt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yalty Progra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structed by fir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quent flyer progra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equent coffee progra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rsonalized Pric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old stat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ample: Amazon and Barnes and No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mazon Assocates Program v. B&amp;N's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ffiliates pr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d nonlinearity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ual Commit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contract”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rchase supplies from one supp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 of “evergreen contract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ppliers and partn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road spur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ized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llow the Lock-in cyc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2096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nd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8680" y="33861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4290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800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rench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007360" y="431712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 rot="16200000">
            <a:off x="6350400" y="2410920"/>
            <a:ext cx="814680" cy="866880"/>
          </a:xfrm>
          <a:custGeom>
            <a:avLst/>
            <a:gdLst>
              <a:gd name="textAreaLeft" fmla="*/ -360 w 814680"/>
              <a:gd name="textAreaRight" fmla="*/ 814680 w 81468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248520" y="4343400"/>
            <a:ext cx="814320" cy="866880"/>
          </a:xfrm>
          <a:custGeom>
            <a:avLst/>
            <a:gdLst>
              <a:gd name="textAreaLeft" fmla="*/ 360 w 814320"/>
              <a:gd name="textAreaRight" fmla="*/ 815040 w 81432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 rot="10800000">
            <a:off x="2133720" y="2361240"/>
            <a:ext cx="814320" cy="866520"/>
          </a:xfrm>
          <a:custGeom>
            <a:avLst/>
            <a:gdLst>
              <a:gd name="textAreaLeft" fmla="*/ 360 w 814320"/>
              <a:gd name="textAreaRight" fmla="*/ 815040 w 81432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witching costs are ubiquit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ers may be vulner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your installe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for durable purc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able to identify 7-types of 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ognizing Lock-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of swit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d v. 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 v.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the Differenc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urable investments in complementary ass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pplier wants to lock-in custom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stomer wants to avoid lock-i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sic principle: 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Look ahead and reason bac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l Atlantic and AT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ESS digital switch used proprietary 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witching costs to change swi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craft repair and cargo con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mall Switching Costs Mat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ne number por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ail addr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mail (advertising, portabi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M, CalT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at lockin costs on a per custom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uing an Installed B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ustomer C switches from A to "same position" w/ 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switching costs = customer costs + B's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ching ISPs costs customer $50 new ISP $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ISP make $100 on customer, 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ISP makes $70 on customer, no swi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isruption co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ILECs v CLE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itiv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it=switching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 ILEC profits=customer + CLEC switching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fits &amp; Switching Cost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 General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fits from a customer = total switching costs + quality/cost advanta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commodity market like telephony, profit per customer = total switching costs per custom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of this rule of thum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w much to invest to get locked-in b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valuate a target acquisition (e.g., Hotma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oduct and design decisions that affect switching cos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ication of Lock-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urable purchases and replacement: declines with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rand-specific training: rises with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formation and data: rises with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pecialized suppliers: may ri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arch costs: learn about alternativ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oyalty programs: rebuild cumulative us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actual commitments: dama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rable Purcha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market sales (supplies, mainten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(true) deprec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fall with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out for multiple pieces of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lier will want to stagger vi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 renew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ology lock-in v. vendor 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1:49:44Z</dcterms:created>
  <dc:creator>Hal Varian</dc:creator>
  <dc:description/>
  <dc:language>en-US</dc:language>
  <cp:lastModifiedBy>Hal Varian</cp:lastModifiedBy>
  <dcterms:modified xsi:type="dcterms:W3CDTF">1998-07-24T02:49:16Z</dcterms:modified>
  <cp:revision>39</cp:revision>
  <dc:subject/>
  <dc:title>Recognizing Lock-In</dc:title>
</cp:coreProperties>
</file>